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22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862DC-4A51-462F-9F5E-96385B3170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70633-1714-4F7C-8504-28108DD4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C51A08-A920-41D2-BC1A-8D01B8E3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28F5FB-FCEB-4D93-9B6C-8958AF46A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788067-A71A-4872-B2A7-8940497E4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65E739-BF3E-4743-A7BB-70275998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F7A5B3-C25C-487A-A3AB-421F41A7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0685FA-A8C5-4AD7-B81F-B6EAF91D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903EB9-9061-4398-87C1-8D747734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E904A4-9EEE-43D3-8BBE-7E2161AF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DE80E6-0084-443F-93F3-9DA7AE1CA6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DF817-BBAA-4F15-8915-6DF5EEB7AE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E9F71-845F-4EBD-B248-892A7988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8CDB6-B0A4-4CC4-8B3A-7C15013C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01B82-4BCE-442E-8502-70E2B54F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9D060-5797-4889-BAC6-72E6B367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850D6-A880-470A-BBA4-0ACA55FF7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37820-35B2-4E35-AB54-8D589A700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3947D-C6B7-4768-BC9E-270B65BB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50265-6BAE-4432-A9EE-F2F41E18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C40BB-0502-48E5-8110-36310697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97BB8-D5F9-410F-8931-F5F5C285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96098-F9A3-4973-8BF1-48D5FD4D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8ABC6-7C13-4BB8-8179-5293605DE6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27E3A-CC4B-4C72-9AD8-186B3D05B5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46855C-3CF1-44EE-B6FD-B8BF49E68D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0A328B-C205-452D-A6B5-41653A10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8B1728-974E-45D8-B310-C66763BD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04AB18-F899-4073-AE0E-32CD1003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8472BB-719F-4BBC-8ABC-76C19593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6ECA68-19DD-485D-8701-C6201F373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86CA13-9839-4B5F-962F-0E212C0D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7B467A-0447-4086-812B-36CFEEC7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56CEB9-8896-4A7B-ACA1-AA3F0FA0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DE81A-4C6F-45A2-BA77-F241963D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706937-D402-4914-84C4-381C526A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BA487E-9906-4AFD-A4A6-B433866F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442FA6-62C8-459D-ABDE-4859131605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64AD26-A6A6-4374-97E7-F38EA0AA1F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05A8F9-82AC-4C5E-80FB-79925EE1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D2C36C-65F7-4064-831B-3F5F23DF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EFEAB9-108C-4BD0-BBD2-80CB8D68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ADD9D4-759A-4B79-B68A-852847E62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C546D7-1726-4EBA-9C6A-E76A04130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B8CA50-4564-4583-9483-21DCB31E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D6E7D-C5E9-41F8-BAC2-21134D5C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BD6815-3821-42FD-BD58-80479DF9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F80782-A6B8-41BD-8D4F-76A23A03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6A7525-5EDF-4B60-9E62-4C0C7F32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4E211B-E748-4749-A49C-37B17FBB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BFF886-A16E-4A22-8E75-CF5C187768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030C0-932C-4D4E-B0FC-FB9E2AE634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86879-CD9C-4281-86FA-6D9007AD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012BE-1D3A-40D2-A52A-ED41AC3A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0BF68-0765-4456-9665-4A7BDE1D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3A5949-4812-43B1-ADE1-5CDF5ECCA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EE5E0-AE29-4EAD-8A01-841CE267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C1C7D-FB97-462C-B0D8-C68ED7D9E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9A403-EA8C-463A-AB0C-FCE4E3E8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53F842-74EA-4F49-8534-26255490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DFEE0-1AC5-42D5-9A37-3AEA9485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D4A49-6A9D-47EC-BF9C-BA5701BB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7D4F7-30B6-4059-BC2B-FA58B320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A631F-59A3-4331-9F33-F3FA31BD48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3764C-B1B1-49DA-A76C-F8639F5F7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B88BDD-F177-47E3-970F-DBC286CF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976B1-EAE3-4AD6-A839-E9AA57FC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20439-DAD7-4040-9FE1-1807EC40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704A1-6C61-4508-BD17-FC90A5C1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1E1D0-DCD5-4F80-BA44-C929A3C7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3FDB68-8F3C-486F-9628-AFC2B1A2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70893-AA8E-4630-BF03-D8115884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A9F7B9-CB61-4D31-AE59-5ADF5D77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5F339B-6998-4C65-97EF-38F0FF40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41286C-842B-4FCB-8E0D-658A7181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8FF39-9F0E-4625-A61E-49CF093A1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0E3DEC-353E-4CBF-B6A6-13D2F69DE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1AA97-4679-4E02-915D-E51F143C1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A14D1-0A48-4A15-AB1D-311AA8CA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4B9F8-350A-47F0-A45F-F6B8BBE4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029AC-F008-4FDB-9B7C-16AFC048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97E29-7F5D-4900-9EF5-34179D6A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91667-17A3-45FF-B335-514D5582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36028-DAC2-45BC-8094-93125A06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11E8E-48E0-47E8-9E26-6429C60D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00138-5BCD-4014-AFCC-8E46C1A3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09B16-7A1B-4F15-BB34-216DF0F5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6A281-E6AF-4074-8167-D8640781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D2A10-FFF4-44E3-980F-3709D7E23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A81AB4-DF86-4B95-A666-88FBBBA3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E03A6-BD5A-4CF7-814B-4A63CF066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1C9885-3CA7-4EEC-88BC-C12F55A2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6616DA-3F1E-4468-891A-8105051A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A81848-7108-4840-8564-B30CDF3D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7D889E-A199-4A14-9F91-12C84435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91582-4E12-4C4C-8981-17D3FE67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1F6E76-6195-4DE6-BFFE-898CFC3C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0D90B7-7751-4D12-9958-5FAAD3D1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459E05-7147-4A0B-BA6D-CEB46FCE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5B075D-7BC3-46C7-AD61-C81109E0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9E200-C735-499E-863A-6C781962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980344-D645-4262-9CDA-E63E55BD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804B26-83FD-401B-8717-0B78AF653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25C3F5-61F5-4EC5-B0C3-FB1D0E17B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39E7F7-A4CF-4D2B-A900-E32BE61ED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3405C7-64DB-47E2-BE6B-4221E42D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386C61-65CC-4DF8-9DAA-60BAF43F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C09C8A-5523-48CF-B088-1577F1D7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8C1B01-64D9-4CC2-BFCD-5F66D71A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066DB6-9CA9-4CDE-AE33-05CCD2FD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80F718-6AA6-4545-8F3D-DFB7E279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691D4-CAF9-4BF9-8B89-5CBD1F83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FA1CA-8A3C-425E-A8B4-7B2086D6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1CCD0C-BF38-4A8D-BFB2-F89C09B5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2901BA-3B6D-49F7-9C6F-DB326CB7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CCEF34-9F1D-4FBD-8ED5-62E6E811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47EAFA-07FC-4D72-B73B-B0828EAF9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D90DEC-65DC-41CD-989D-40F6789C4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E1FFE4-CDEE-4176-9C5C-8379251D0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5DE87B-8EFA-4F12-8612-B2D62627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9603B4-BC77-4EAF-875E-3F0FF7C9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2571CF-7FB9-43EA-9C23-7508D3E6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79A400-92D8-4054-9EA8-E330453D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D351F4-CA34-4A2C-A388-4038BB78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67193F-4689-4803-AB47-AB7FE73F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8C6F9F-3ECC-46B2-A1DC-78549E2D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856D93-5261-41E1-B95E-1449CD1C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F15676-1081-4EEA-A07E-F52A0F82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DEF281-3BB0-4494-847F-5ECBE25C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CB72BC-7B6B-4FC3-B495-CAF00F6B2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DF673B-03B1-4B2F-9CB0-894DA45D3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FA09B1-F3B7-408E-80FB-EE55B34AE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F98A7E-4693-4092-B3C4-669CA032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DFA87C-5BE5-4E77-8F4D-B2A6853E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93532-E907-48A3-85E6-79C10229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C16E91-6975-4084-8511-012D2F72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3EE24C-9DAB-4FA6-AE6C-D849E398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90D722-9D2F-4B81-9150-57D6A87E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9E66EA-C665-47F4-A847-0593E40F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FD7D0C-25E2-4ADC-BE73-00B6160A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972C1F-326D-4ECC-8CEC-A3F10A2C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816A1A-5376-4BD1-987F-A85699DA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71FD30-B8B1-4A87-B41C-AD26DFAEA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F29D16-9A86-44DC-8F5D-2880E5F84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CEC3E0-25D2-4B6E-8EDD-9F3A193DD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5AA9F-3914-47AA-8E76-ECD403AFD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864855-E136-4CDB-9655-63DFB037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BEC8D7-8AA0-4304-B6F4-32F5D14F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D379E3-5462-4410-B113-091E5CB4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14C6E2-82A9-4CC3-9656-8BC47ACC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7CF776-6E3C-4678-A1C8-078A5B04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8EA6E6-DDF3-44E1-9F03-C9A68C41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1BC00E-1773-4F12-A490-6D3E86D6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5F7F26-C843-4673-8292-A7CE069A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5A9AC0-726A-41FF-B5FE-24D70840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0BFF8F-6169-4814-B307-CF8563D5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02CA7-5986-4984-A4FA-551A8251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F358E1-AB5E-4E45-AF3C-1479099BB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A4660A-FF5C-4C3C-97EC-F0C9B0DA1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A72B44-EDC5-4018-8D63-A56D7D63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64C2C4-C130-4E83-B377-C096251C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A75262-C6CA-454F-B59A-5CAD5A12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C536B3-A0D5-491C-9D8E-071960E0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9C358B-DB36-48FE-94D5-F0D6B719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6A66FF-B3F4-4A4A-8A94-45D33AFE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942989-2649-4C10-9297-38262B20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16FFB5-AC83-42D2-98FD-74FDC0FC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12F568-4EB7-4AE2-AE6E-FFB07B916D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AC961F-C6A0-4611-8698-A3A5D98A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5FCBA4-BF3F-49EC-A3D0-E55D0AB07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C3852E-D12E-4DE1-BB62-801C4A9AF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EBF377-B340-4F47-85E5-B783335A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A3B09E-3DA2-4F7D-8ECE-18FC05DE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54FD81-EFC0-4EF2-A6F8-77D9A0EB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92E7D4-C390-421C-B288-8F8DE4D2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6B7DC3-51F7-4E72-BF7A-FFB887C2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FF2F6C-FF92-40EF-AF13-9AB50541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40070A-F059-4C55-952E-12D6524D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94A5C1-79E3-4CC4-BFCD-AB252AA9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703981-12A8-4A22-86C3-D6FA2584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B1F78A-BE04-4BD1-929A-BD07C91D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71F488-AF24-414D-8CB7-150B27B3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861338-4E1E-4BE1-BE87-C15ABC7EA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ECCFC8-6A63-403F-8C00-88C07C4B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4BADD5-E561-4450-B49F-A12C0B8B5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2DCF08-D24A-42CB-B240-3046B35F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B80B81-0688-4B88-8580-B555608E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54545E-46A3-4727-8B17-744BBD05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365C4D-923F-452D-8469-72ABE274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6AB47A-10EB-4526-9CF7-EDD7ADB1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BA95C6-77FF-46AC-B2CE-161C9580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B48AC7-8ECE-48B7-B511-9358FE7D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E2CD7C-88F9-471C-A7AC-A52DEA75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FF6422-B6E3-4DF0-94D4-2CCB4191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F0ACC5-91E0-4DA8-8DFC-10E38E4A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45B992-B866-4BBB-8571-B9BEB838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FE57B6-8D1A-4C63-A61B-1CCDA17DC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A20438-D96B-423E-B4BC-A9F911CD4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FF6FEC-C1EB-4B7D-A7F2-96E62C1A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59E14E-8133-4413-BEB6-5F8DF436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677135-1B30-46FF-B30F-729138B3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49AA5F-B1B4-493D-BCFA-FC441E09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35CD5F-3A1F-42C4-B3B7-53DED5A4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91D707-61BF-4DE8-A76E-44A9B6F3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94231A-7F05-41DE-BAB8-D7B93034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9272B0-5B12-4A52-8090-F405FF08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9B9E3E-B8FC-4C2C-B40E-F22C79A9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C2E80A-4302-42A3-90FE-65ED45A5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3A0571-AF26-4B1E-AEFC-DB9D173DA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51A271-EC25-4CC1-87BE-4257AC1A0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D9F9B2-9F7A-4781-ACA2-EFD56D011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59B11-D517-4DBE-90AD-7F2C761E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5D502B-4BDA-444C-99E3-32A544E87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CC80E9-036F-4257-A0E2-90906F25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C7123C-75D7-49A5-B251-7612F920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E9CFC7-B74B-49B2-880E-7638F206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BEA9DB-DC92-4576-9129-DC445888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49115F-381F-489E-9A09-4308242D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F7B28D-65E6-4552-8754-5ADC5A1A19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66C8E-4174-426A-BBDE-C41F277343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FA5DD-9DB9-4DC3-B77A-22BDF7C5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2FA32-E31E-4B09-B3F3-7A88B929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1B897-0942-46FB-B9EB-DED267E4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AB5F5-9F0C-42B6-84CB-940C222E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E4B97-EA84-4989-8427-B2E9EE210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31A37-F1BB-4FED-8CCE-FC6ED6E55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8B421-D364-432F-B6D3-8E6D4141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D86AF-C73D-4B86-B0DD-2263FB82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18C7A-90CB-4D05-9E8B-B4FCF771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58A7B-2469-498C-9CC0-3DBDCC4B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44B65-7F2A-40E5-AD43-07E2FA45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E86AC-C5FE-4F55-AE25-DF305C04FB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F80E63-F0DE-44CF-BE7E-D2DB1C9FA0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5D5F7-90CC-4421-857B-1DC639424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3E0DA6-E873-48EC-92CE-0CFE3567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4A4593-1467-4B29-B756-89DF77B9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2D36FD-81AB-48A3-8944-D79C8DFC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8A1293-E62D-4ADF-9614-470A24C9B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0B4529-D0C5-46B2-8304-5BAA15F74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14C36C-CAA1-4169-A63A-E9EDDD6E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566680-F8C0-4379-BDF6-6733805C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06723C-B7D2-4C28-8212-F07BD912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3286FC-A14C-45BF-BCFC-31E33D51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9106DB-ACE5-44FC-B659-8656A924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3A8D3-C13C-41A7-9DE0-36148DF20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6ADE06-C411-408C-83FE-66C235738F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119C4D-F2B4-42B2-AB0B-5BB159F681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2E2FF3-E3A1-47EF-BF5E-3AE7FCB2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446887-3352-4A4A-AD7B-C40A37A0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1D06BB-B62B-434C-8978-09A4A253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1DC53B-ECB5-4921-B4BB-55D163DDA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F638AE-4C5B-4D3E-8D3B-4543CCCE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E36953-6E09-4533-BA54-DECA88FD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982D05-65D0-4002-9026-F3656729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A628DC-9BD3-4A9A-95EE-FEFD95AE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A21B8-88E4-451E-A7A2-5383E831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F9DC80-FC9F-4403-A983-B007734E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E9EE88-374B-49F2-B560-0358117F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9ED212-C516-49BC-99D1-410B26534E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B8EB0-9360-4C9B-8E7D-639A7C651B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85DA8-5611-458E-91F8-2B388023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205AC-2CE4-4AB4-95A9-38D9C558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F7D31-0215-436A-9C55-F2509DD6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A7BF3-E27E-44A9-94E2-68DDE1367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E0F8C-691D-4445-96A1-01B00114D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E35CB-7733-4D4B-A359-AB60B97D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F06D1-5BDA-41E9-B8DB-FA982566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920F4-BC59-4AEA-A916-A4933E45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0D9F6-7A4D-47C8-9FB5-C04EC067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8967D-CD2A-4BF0-B7C7-8E1454E1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98C68-B7CE-4E57-8EF5-D60EDF95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4CD22-BC9D-4157-A156-82214CE14D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4632D0-4269-4384-953F-C2833E72D0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D52594-1F0A-4D70-9246-251C9E8F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597777-3147-49B8-8378-2AF60333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50E98F-51F2-4A73-A4E2-AF2826A1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37BD75-E8AB-4C24-B23C-20D3325D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16B53-8C2F-4D2B-9510-DA127C81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3AED50-4107-40CC-84EF-7B2B842B3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120CF8-5DEF-43AE-9530-DAEFDC7D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96EF8D-5CE8-4BC1-9079-CFAC2A46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5D1F8A-6A8F-4283-8BEC-B9EBAB66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01E670-6A85-4FA6-81A7-2FB8B7FE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630E0D-E287-4C89-918C-6376C2E5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4EE0E8-0F91-4E94-B97E-FF142B31D6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DD0F0F-BC63-4847-BDD4-8AB93920E0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C8ACE6-8363-4392-8F07-54A17C29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2A0C93-D6DC-4AB5-80FE-582177BC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1A4E-6FB6-403D-9A59-1E5CD3094C5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A059-8408-4011-AAFC-068E60231A3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C333-3D3F-403A-BEDB-1A85E19B289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75D1-3E35-467C-92C9-686D6EC3B40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9DC8-7C84-4C87-88E0-4F12B59E5FC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C48D-C15A-44AE-A196-CF2582D90A7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09B6-CF8A-4641-BE0E-C39FD87E4DD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62E7-EC2D-4D94-BC77-87D258AC305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A0F4-623E-4B5E-BD3C-04D347C36F2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24B4-1E1F-487F-8F0B-B49AF056463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D4B9-C874-4124-84E4-62DAF57DE68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76E1-B4BF-4202-B562-A7279597094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2E70-C825-4597-8518-0230AEF5A20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1190-8984-4125-9D27-05DF5D1C12B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8063-FCD2-49D5-9563-93EC9131FFF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3D22-3DAF-40A3-92A9-0759E96337B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FC06-C7BA-4B01-8138-F58C4FED216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955A-580F-4F6D-BA7C-24BEEA021C1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E9EA-FB62-49A8-83E8-7C514077EBC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CAA7-26ED-4C48-8327-0F3D252C369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A60B-5127-4226-98FF-61982C4D5DD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F50D-A6BF-4451-9041-B0089730769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66CA-EBCC-4C50-A306-145097C4C97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E11D-876E-436B-B8A4-5E2A57BDD0B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image" Target="../media/image9.jpeg"/><Relationship Id="rId24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1200240" y="2841480"/>
            <a:ext cx="557280" cy="46224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422280" y="2768760"/>
            <a:ext cx="8443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4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 乘 法 口 诀（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882720" y="174456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 内 乘 法（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999" name="圆角矩形 15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001" name="椭圆 13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17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1009" name=""/>
          <p:cNvGraphicFramePr/>
          <p:nvPr/>
        </p:nvGraphicFramePr>
        <p:xfrm>
          <a:off x="2581200" y="1603440"/>
          <a:ext cx="3071880" cy="2643120"/>
        </p:xfrm>
        <a:graphic>
          <a:graphicData uri="http://schemas.openxmlformats.org/drawingml/2006/table">
            <a:tbl>
              <a:tblPr/>
              <a:tblGrid>
                <a:gridCol w="768240"/>
                <a:gridCol w="768600"/>
                <a:gridCol w="766800"/>
                <a:gridCol w="768240"/>
              </a:tblGrid>
              <a:tr h="660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0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0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10" name="组合 60"/>
          <p:cNvGrpSpPr/>
          <p:nvPr/>
        </p:nvGrpSpPr>
        <p:grpSpPr>
          <a:xfrm>
            <a:off x="2724120" y="1649520"/>
            <a:ext cx="2857680" cy="2571480"/>
            <a:chOff x="2724120" y="1649520"/>
            <a:chExt cx="2857680" cy="2571480"/>
          </a:xfrm>
        </p:grpSpPr>
        <p:pic>
          <p:nvPicPr>
            <p:cNvPr id="1011" name="Picture 2" descr="D:\我的文档-桌面-收藏夹\桌面\ac6eddc451da81cbd2215ab15066d01608243183.jpg"/>
            <p:cNvPicPr/>
            <p:nvPr/>
          </p:nvPicPr>
          <p:blipFill>
            <a:blip r:embed="rId8"/>
            <a:srcRect l="25654" t="64324" r="60611" b="20990"/>
            <a:stretch/>
          </p:blipFill>
          <p:spPr>
            <a:xfrm>
              <a:off x="2724120" y="1649520"/>
              <a:ext cx="541800" cy="56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2" name="Picture 2" descr="D:\我的文档-桌面-收藏夹\桌面\ac6eddc451da81cbd2215ab15066d01608243183.jpg"/>
            <p:cNvPicPr/>
            <p:nvPr/>
          </p:nvPicPr>
          <p:blipFill>
            <a:blip r:embed="rId9"/>
            <a:srcRect l="25654" t="64324" r="60611" b="20990"/>
            <a:stretch/>
          </p:blipFill>
          <p:spPr>
            <a:xfrm>
              <a:off x="3463200" y="1649520"/>
              <a:ext cx="541800" cy="56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3" name="Picture 2" descr="D:\我的文档-桌面-收藏夹\桌面\ac6eddc451da81cbd2215ab15066d01608243183.jpg"/>
            <p:cNvPicPr/>
            <p:nvPr/>
          </p:nvPicPr>
          <p:blipFill>
            <a:blip r:embed="rId10"/>
            <a:srcRect l="25654" t="64324" r="60611" b="20990"/>
            <a:stretch/>
          </p:blipFill>
          <p:spPr>
            <a:xfrm>
              <a:off x="4251600" y="1649520"/>
              <a:ext cx="541800" cy="56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4" name="Picture 2" descr="D:\我的文档-桌面-收藏夹\桌面\ac6eddc451da81cbd2215ab15066d01608243183.jpg"/>
            <p:cNvPicPr/>
            <p:nvPr/>
          </p:nvPicPr>
          <p:blipFill>
            <a:blip r:embed="rId11"/>
            <a:srcRect l="25654" t="64324" r="60611" b="20990"/>
            <a:stretch/>
          </p:blipFill>
          <p:spPr>
            <a:xfrm>
              <a:off x="5040000" y="1649520"/>
              <a:ext cx="541800" cy="56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5" name="Picture 2" descr="D:\我的文档-桌面-收藏夹\桌面\ac6eddc451da81cbd2215ab15066d01608243183.jpg"/>
            <p:cNvPicPr/>
            <p:nvPr/>
          </p:nvPicPr>
          <p:blipFill>
            <a:blip r:embed="rId12"/>
            <a:srcRect l="25654" t="64324" r="60611" b="20990"/>
            <a:stretch/>
          </p:blipFill>
          <p:spPr>
            <a:xfrm>
              <a:off x="2724120" y="2269440"/>
              <a:ext cx="541800" cy="56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2" descr="D:\我的文档-桌面-收藏夹\桌面\ac6eddc451da81cbd2215ab15066d01608243183.jpg"/>
            <p:cNvPicPr/>
            <p:nvPr/>
          </p:nvPicPr>
          <p:blipFill>
            <a:blip r:embed="rId13"/>
            <a:srcRect l="25654" t="64324" r="60611" b="20990"/>
            <a:stretch/>
          </p:blipFill>
          <p:spPr>
            <a:xfrm>
              <a:off x="3463200" y="2269440"/>
              <a:ext cx="541800" cy="56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7" name="Picture 2" descr="D:\我的文档-桌面-收藏夹\桌面\ac6eddc451da81cbd2215ab15066d01608243183.jpg"/>
            <p:cNvPicPr/>
            <p:nvPr/>
          </p:nvPicPr>
          <p:blipFill>
            <a:blip r:embed="rId14"/>
            <a:srcRect l="25654" t="64324" r="60611" b="20990"/>
            <a:stretch/>
          </p:blipFill>
          <p:spPr>
            <a:xfrm>
              <a:off x="4251600" y="2269440"/>
              <a:ext cx="541800" cy="56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8" name="Picture 2" descr="D:\我的文档-桌面-收藏夹\桌面\ac6eddc451da81cbd2215ab15066d01608243183.jpg"/>
            <p:cNvPicPr/>
            <p:nvPr/>
          </p:nvPicPr>
          <p:blipFill>
            <a:blip r:embed="rId15"/>
            <a:srcRect l="25654" t="64324" r="60611" b="20990"/>
            <a:stretch/>
          </p:blipFill>
          <p:spPr>
            <a:xfrm>
              <a:off x="5040000" y="2269440"/>
              <a:ext cx="541800" cy="56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9" name="Picture 2" descr="D:\我的文档-桌面-收藏夹\桌面\ac6eddc451da81cbd2215ab15066d01608243183.jpg"/>
            <p:cNvPicPr/>
            <p:nvPr/>
          </p:nvPicPr>
          <p:blipFill>
            <a:blip r:embed="rId16"/>
            <a:srcRect l="25654" t="64324" r="60611" b="20990"/>
            <a:stretch/>
          </p:blipFill>
          <p:spPr>
            <a:xfrm>
              <a:off x="2724120" y="2935440"/>
              <a:ext cx="541800" cy="56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0" name="Picture 2" descr="D:\我的文档-桌面-收藏夹\桌面\ac6eddc451da81cbd2215ab15066d01608243183.jpg"/>
            <p:cNvPicPr/>
            <p:nvPr/>
          </p:nvPicPr>
          <p:blipFill>
            <a:blip r:embed="rId17"/>
            <a:srcRect l="25654" t="64324" r="60611" b="20990"/>
            <a:stretch/>
          </p:blipFill>
          <p:spPr>
            <a:xfrm>
              <a:off x="3463200" y="2935440"/>
              <a:ext cx="541800" cy="56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1" name="Picture 2" descr="D:\我的文档-桌面-收藏夹\桌面\ac6eddc451da81cbd2215ab15066d01608243183.jpg"/>
            <p:cNvPicPr/>
            <p:nvPr/>
          </p:nvPicPr>
          <p:blipFill>
            <a:blip r:embed="rId18"/>
            <a:srcRect l="25654" t="64324" r="60611" b="20990"/>
            <a:stretch/>
          </p:blipFill>
          <p:spPr>
            <a:xfrm>
              <a:off x="4251600" y="2941920"/>
              <a:ext cx="541800" cy="56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2" descr="D:\我的文档-桌面-收藏夹\桌面\ac6eddc451da81cbd2215ab15066d01608243183.jpg"/>
            <p:cNvPicPr/>
            <p:nvPr/>
          </p:nvPicPr>
          <p:blipFill>
            <a:blip r:embed="rId19"/>
            <a:srcRect l="25654" t="64324" r="60611" b="20990"/>
            <a:stretch/>
          </p:blipFill>
          <p:spPr>
            <a:xfrm>
              <a:off x="5040000" y="2935440"/>
              <a:ext cx="541800" cy="56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3" name="Picture 2" descr="D:\我的文档-桌面-收藏夹\桌面\ac6eddc451da81cbd2215ab15066d01608243183.jpg"/>
            <p:cNvPicPr/>
            <p:nvPr/>
          </p:nvPicPr>
          <p:blipFill>
            <a:blip r:embed="rId20"/>
            <a:srcRect l="25654" t="64324" r="60611" b="20990"/>
            <a:stretch/>
          </p:blipFill>
          <p:spPr>
            <a:xfrm>
              <a:off x="2724120" y="3656160"/>
              <a:ext cx="541800" cy="56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4" name="Picture 2" descr="D:\我的文档-桌面-收藏夹\桌面\ac6eddc451da81cbd2215ab15066d01608243183.jpg"/>
            <p:cNvPicPr/>
            <p:nvPr/>
          </p:nvPicPr>
          <p:blipFill>
            <a:blip r:embed="rId21"/>
            <a:srcRect l="25654" t="64324" r="60611" b="20990"/>
            <a:stretch/>
          </p:blipFill>
          <p:spPr>
            <a:xfrm>
              <a:off x="3463200" y="3656160"/>
              <a:ext cx="541800" cy="56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5" name="Picture 2" descr="D:\我的文档-桌面-收藏夹\桌面\ac6eddc451da81cbd2215ab15066d01608243183.jpg"/>
            <p:cNvPicPr/>
            <p:nvPr/>
          </p:nvPicPr>
          <p:blipFill>
            <a:blip r:embed="rId22"/>
            <a:srcRect l="25654" t="64324" r="60611" b="20990"/>
            <a:stretch/>
          </p:blipFill>
          <p:spPr>
            <a:xfrm>
              <a:off x="4251600" y="3656160"/>
              <a:ext cx="541800" cy="56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" name="Picture 2" descr="D:\我的文档-桌面-收藏夹\桌面\ac6eddc451da81cbd2215ab15066d01608243183.jpg"/>
            <p:cNvPicPr/>
            <p:nvPr/>
          </p:nvPicPr>
          <p:blipFill>
            <a:blip r:embed="rId23"/>
            <a:srcRect l="25654" t="64324" r="60611" b="20990"/>
            <a:stretch/>
          </p:blipFill>
          <p:spPr>
            <a:xfrm>
              <a:off x="5040000" y="3656160"/>
              <a:ext cx="541800" cy="564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7" name="组合 19"/>
          <p:cNvGrpSpPr/>
          <p:nvPr/>
        </p:nvGrpSpPr>
        <p:grpSpPr>
          <a:xfrm>
            <a:off x="1704960" y="4511520"/>
            <a:ext cx="1714680" cy="785880"/>
            <a:chOff x="1704960" y="4511520"/>
            <a:chExt cx="1714680" cy="785880"/>
          </a:xfrm>
        </p:grpSpPr>
        <p:sp>
          <p:nvSpPr>
            <p:cNvPr id="1028" name="TextBox 20"/>
            <p:cNvSpPr/>
            <p:nvPr/>
          </p:nvSpPr>
          <p:spPr>
            <a:xfrm>
              <a:off x="1990440" y="4511520"/>
              <a:ext cx="5713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+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TextBox 21"/>
            <p:cNvSpPr/>
            <p:nvPr/>
          </p:nvSpPr>
          <p:spPr>
            <a:xfrm>
              <a:off x="1704960" y="4654440"/>
              <a:ext cx="357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0" name="直接箭头连接符 22"/>
            <p:cNvCxnSpPr/>
            <p:nvPr/>
          </p:nvCxnSpPr>
          <p:spPr>
            <a:xfrm>
              <a:off x="1990080" y="5011560"/>
              <a:ext cx="57204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31" name="矩形 23"/>
            <p:cNvSpPr/>
            <p:nvPr/>
          </p:nvSpPr>
          <p:spPr>
            <a:xfrm>
              <a:off x="2633760" y="4654440"/>
              <a:ext cx="785880" cy="642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组合 24"/>
          <p:cNvGrpSpPr/>
          <p:nvPr/>
        </p:nvGrpSpPr>
        <p:grpSpPr>
          <a:xfrm>
            <a:off x="3490560" y="4511520"/>
            <a:ext cx="1429200" cy="785880"/>
            <a:chOff x="3490560" y="4511520"/>
            <a:chExt cx="1429200" cy="785880"/>
          </a:xfrm>
        </p:grpSpPr>
        <p:sp>
          <p:nvSpPr>
            <p:cNvPr id="1033" name="TextBox 25"/>
            <p:cNvSpPr/>
            <p:nvPr/>
          </p:nvSpPr>
          <p:spPr>
            <a:xfrm>
              <a:off x="3490920" y="4511520"/>
              <a:ext cx="5713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+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4" name="直接箭头连接符 26"/>
            <p:cNvCxnSpPr/>
            <p:nvPr/>
          </p:nvCxnSpPr>
          <p:spPr>
            <a:xfrm>
              <a:off x="3490560" y="5011560"/>
              <a:ext cx="57204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35" name="矩形 27"/>
            <p:cNvSpPr/>
            <p:nvPr/>
          </p:nvSpPr>
          <p:spPr>
            <a:xfrm>
              <a:off x="4133880" y="4654440"/>
              <a:ext cx="785880" cy="642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组合 28"/>
          <p:cNvGrpSpPr/>
          <p:nvPr/>
        </p:nvGrpSpPr>
        <p:grpSpPr>
          <a:xfrm>
            <a:off x="4990680" y="4511520"/>
            <a:ext cx="1429200" cy="785880"/>
            <a:chOff x="4990680" y="4511520"/>
            <a:chExt cx="1429200" cy="785880"/>
          </a:xfrm>
        </p:grpSpPr>
        <p:sp>
          <p:nvSpPr>
            <p:cNvPr id="1037" name="TextBox 29"/>
            <p:cNvSpPr/>
            <p:nvPr/>
          </p:nvSpPr>
          <p:spPr>
            <a:xfrm>
              <a:off x="4991040" y="4511520"/>
              <a:ext cx="5713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+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8" name="直接箭头连接符 30"/>
            <p:cNvCxnSpPr/>
            <p:nvPr/>
          </p:nvCxnSpPr>
          <p:spPr>
            <a:xfrm>
              <a:off x="4990680" y="5011560"/>
              <a:ext cx="57204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39" name="矩形 31"/>
            <p:cNvSpPr/>
            <p:nvPr/>
          </p:nvSpPr>
          <p:spPr>
            <a:xfrm>
              <a:off x="5634000" y="4654440"/>
              <a:ext cx="785880" cy="642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Rectangle 51"/>
          <p:cNvSpPr/>
          <p:nvPr/>
        </p:nvSpPr>
        <p:spPr>
          <a:xfrm>
            <a:off x="2847960" y="472608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51"/>
          <p:cNvSpPr/>
          <p:nvPr/>
        </p:nvSpPr>
        <p:spPr>
          <a:xfrm>
            <a:off x="4276800" y="472608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51"/>
          <p:cNvSpPr/>
          <p:nvPr/>
        </p:nvSpPr>
        <p:spPr>
          <a:xfrm>
            <a:off x="5776920" y="472608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八边形 25"/>
          <p:cNvSpPr/>
          <p:nvPr/>
        </p:nvSpPr>
        <p:spPr>
          <a:xfrm>
            <a:off x="601560" y="858960"/>
            <a:ext cx="52236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文本框 29"/>
          <p:cNvSpPr/>
          <p:nvPr/>
        </p:nvSpPr>
        <p:spPr>
          <a:xfrm>
            <a:off x="1384200" y="8683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下面一共有多少个包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5" name="组合 2"/>
          <p:cNvGrpSpPr/>
          <p:nvPr/>
        </p:nvGrpSpPr>
        <p:grpSpPr>
          <a:xfrm>
            <a:off x="-58680" y="96840"/>
            <a:ext cx="3481200" cy="525600"/>
            <a:chOff x="-58680" y="96840"/>
            <a:chExt cx="3481200" cy="525600"/>
          </a:xfrm>
        </p:grpSpPr>
        <p:pic>
          <p:nvPicPr>
            <p:cNvPr id="1046" name="圆角矩形 15" descr=""/>
            <p:cNvPicPr/>
            <p:nvPr/>
          </p:nvPicPr>
          <p:blipFill>
            <a:blip r:embed="rId1"/>
            <a:stretch/>
          </p:blipFill>
          <p:spPr>
            <a:xfrm>
              <a:off x="104760" y="96840"/>
              <a:ext cx="33177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7" name="组合 4"/>
            <p:cNvGrpSpPr/>
            <p:nvPr/>
          </p:nvGrpSpPr>
          <p:grpSpPr>
            <a:xfrm>
              <a:off x="-58680" y="191880"/>
              <a:ext cx="462240" cy="273960"/>
              <a:chOff x="-58680" y="191880"/>
              <a:chExt cx="462240" cy="273960"/>
            </a:xfrm>
          </p:grpSpPr>
          <p:sp>
            <p:nvSpPr>
              <p:cNvPr id="1048" name="椭圆 13"/>
              <p:cNvSpPr/>
              <p:nvPr/>
            </p:nvSpPr>
            <p:spPr>
              <a:xfrm rot="16200000">
                <a:off x="190440" y="35460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9" name="椭圆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186840" y="31176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0" name="椭圆 17"/>
              <p:cNvSpPr/>
              <p:nvPr/>
            </p:nvSpPr>
            <p:spPr>
              <a:xfrm rot="16200000">
                <a:off x="190440" y="22608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1" name="椭圆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86840" y="20556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2" name="圆角矩形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-58680" y="327240"/>
                <a:ext cx="38772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3" name="圆角矩形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-58680" y="300600"/>
                <a:ext cx="38772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4" name="圆角矩形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-58680" y="218520"/>
                <a:ext cx="38772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5" name="圆角矩形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-58680" y="191880"/>
                <a:ext cx="387720" cy="94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56" name="组合 70"/>
          <p:cNvGrpSpPr/>
          <p:nvPr/>
        </p:nvGrpSpPr>
        <p:grpSpPr>
          <a:xfrm>
            <a:off x="1209600" y="1206360"/>
            <a:ext cx="6000840" cy="2357640"/>
            <a:chOff x="1209600" y="1206360"/>
            <a:chExt cx="6000840" cy="2357640"/>
          </a:xfrm>
        </p:grpSpPr>
        <p:grpSp>
          <p:nvGrpSpPr>
            <p:cNvPr id="1057" name="组合 40"/>
            <p:cNvGrpSpPr/>
            <p:nvPr/>
          </p:nvGrpSpPr>
          <p:grpSpPr>
            <a:xfrm>
              <a:off x="1209600" y="1206360"/>
              <a:ext cx="6000840" cy="2357640"/>
              <a:chOff x="1209600" y="1206360"/>
              <a:chExt cx="6000840" cy="2357640"/>
            </a:xfrm>
          </p:grpSpPr>
          <p:sp>
            <p:nvSpPr>
              <p:cNvPr id="1058" name="圆角矩形 41"/>
              <p:cNvSpPr/>
              <p:nvPr/>
            </p:nvSpPr>
            <p:spPr>
              <a:xfrm>
                <a:off x="3209400" y="1277640"/>
                <a:ext cx="2214720" cy="2286360"/>
              </a:xfrm>
              <a:custGeom>
                <a:avLst/>
                <a:gdLst>
                  <a:gd name="textAreaLeft" fmla="*/ 108000 w 2214720"/>
                  <a:gd name="textAreaRight" fmla="*/ 2106720 w 2214720"/>
                  <a:gd name="textAreaTop" fmla="*/ 108000 h 2286360"/>
                  <a:gd name="textAreaBottom" fmla="*/ 2178360 h 2286360"/>
                </a:gdLst>
                <a:ahLst/>
                <a:rect l="textAreaLeft" t="textAreaTop" r="textAreaRight" b="textAreaBottom"/>
                <a:pathLst>
                  <a:path w="21600" h="22299">
                    <a:moveTo>
                      <a:pt x="3600" y="0"/>
                    </a:moveTo>
                    <a:arcTo wR="3600" hR="3600" stAng="16200000" swAng="-5400000"/>
                    <a:lnTo>
                      <a:pt x="0" y="18699"/>
                    </a:lnTo>
                    <a:arcTo wR="3600" hR="3600" stAng="10800000" swAng="-5400000"/>
                    <a:lnTo>
                      <a:pt x="18000" y="2229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TextBox 43"/>
              <p:cNvSpPr/>
              <p:nvPr/>
            </p:nvSpPr>
            <p:spPr>
              <a:xfrm>
                <a:off x="1209600" y="1277640"/>
                <a:ext cx="1285920" cy="4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1×4=4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TextBox 44"/>
              <p:cNvSpPr/>
              <p:nvPr/>
            </p:nvSpPr>
            <p:spPr>
              <a:xfrm>
                <a:off x="1209600" y="1849320"/>
                <a:ext cx="1571400" cy="4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2×4=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TextBox 45"/>
              <p:cNvSpPr/>
              <p:nvPr/>
            </p:nvSpPr>
            <p:spPr>
              <a:xfrm>
                <a:off x="3209760" y="1277640"/>
                <a:ext cx="1571400" cy="4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一四得四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TextBox 46"/>
              <p:cNvSpPr/>
              <p:nvPr/>
            </p:nvSpPr>
            <p:spPr>
              <a:xfrm>
                <a:off x="3209760" y="1849320"/>
                <a:ext cx="2143080" cy="4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二四（      ）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TextBox 47"/>
              <p:cNvSpPr/>
              <p:nvPr/>
            </p:nvSpPr>
            <p:spPr>
              <a:xfrm>
                <a:off x="5567400" y="1277640"/>
                <a:ext cx="1285920" cy="4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4×1=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TextBox 48"/>
              <p:cNvSpPr/>
              <p:nvPr/>
            </p:nvSpPr>
            <p:spPr>
              <a:xfrm>
                <a:off x="5567400" y="1920600"/>
                <a:ext cx="1571400" cy="4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4×2=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矩形 49"/>
              <p:cNvSpPr/>
              <p:nvPr/>
            </p:nvSpPr>
            <p:spPr>
              <a:xfrm>
                <a:off x="6496200" y="1849320"/>
                <a:ext cx="714240" cy="571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矩形 50"/>
              <p:cNvSpPr/>
              <p:nvPr/>
            </p:nvSpPr>
            <p:spPr>
              <a:xfrm>
                <a:off x="6496200" y="1206360"/>
                <a:ext cx="714240" cy="571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7" name="矩形 63"/>
            <p:cNvSpPr/>
            <p:nvPr/>
          </p:nvSpPr>
          <p:spPr>
            <a:xfrm>
              <a:off x="2137680" y="1777680"/>
              <a:ext cx="78588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8" name="Rectangle 51"/>
          <p:cNvSpPr/>
          <p:nvPr/>
        </p:nvSpPr>
        <p:spPr>
          <a:xfrm>
            <a:off x="2208240" y="306396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组合 72"/>
          <p:cNvGrpSpPr/>
          <p:nvPr/>
        </p:nvGrpSpPr>
        <p:grpSpPr>
          <a:xfrm>
            <a:off x="1209600" y="2371680"/>
            <a:ext cx="6000840" cy="692280"/>
            <a:chOff x="1209600" y="2371680"/>
            <a:chExt cx="6000840" cy="692280"/>
          </a:xfrm>
        </p:grpSpPr>
        <p:grpSp>
          <p:nvGrpSpPr>
            <p:cNvPr id="1070" name="组合 71"/>
            <p:cNvGrpSpPr/>
            <p:nvPr/>
          </p:nvGrpSpPr>
          <p:grpSpPr>
            <a:xfrm>
              <a:off x="1209600" y="2420640"/>
              <a:ext cx="1714320" cy="594000"/>
              <a:chOff x="1209600" y="2420640"/>
              <a:chExt cx="1714320" cy="594000"/>
            </a:xfrm>
          </p:grpSpPr>
          <p:sp>
            <p:nvSpPr>
              <p:cNvPr id="1071" name="TextBox 54"/>
              <p:cNvSpPr/>
              <p:nvPr/>
            </p:nvSpPr>
            <p:spPr>
              <a:xfrm>
                <a:off x="1209600" y="2420640"/>
                <a:ext cx="12859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3×4=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矩形 55"/>
              <p:cNvSpPr/>
              <p:nvPr/>
            </p:nvSpPr>
            <p:spPr>
              <a:xfrm>
                <a:off x="2138040" y="2442600"/>
                <a:ext cx="785880" cy="572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TextBox 56"/>
            <p:cNvSpPr/>
            <p:nvPr/>
          </p:nvSpPr>
          <p:spPr>
            <a:xfrm>
              <a:off x="3209760" y="2371680"/>
              <a:ext cx="2143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三四（      ）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TextBox 61"/>
            <p:cNvSpPr/>
            <p:nvPr/>
          </p:nvSpPr>
          <p:spPr>
            <a:xfrm>
              <a:off x="5567400" y="2514600"/>
              <a:ext cx="1285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4×3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矩形 62"/>
            <p:cNvSpPr/>
            <p:nvPr/>
          </p:nvSpPr>
          <p:spPr>
            <a:xfrm>
              <a:off x="6496200" y="2492280"/>
              <a:ext cx="714240" cy="571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6" name="组合 63"/>
          <p:cNvGrpSpPr/>
          <p:nvPr/>
        </p:nvGrpSpPr>
        <p:grpSpPr>
          <a:xfrm>
            <a:off x="1209600" y="2992320"/>
            <a:ext cx="4143600" cy="642960"/>
            <a:chOff x="1209600" y="2992320"/>
            <a:chExt cx="4143600" cy="642960"/>
          </a:xfrm>
        </p:grpSpPr>
        <p:sp>
          <p:nvSpPr>
            <p:cNvPr id="1077" name="TextBox 64"/>
            <p:cNvSpPr/>
            <p:nvPr/>
          </p:nvSpPr>
          <p:spPr>
            <a:xfrm>
              <a:off x="3210120" y="2992320"/>
              <a:ext cx="2143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四四（      ）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TextBox 65"/>
            <p:cNvSpPr/>
            <p:nvPr/>
          </p:nvSpPr>
          <p:spPr>
            <a:xfrm>
              <a:off x="1209600" y="3063600"/>
              <a:ext cx="1285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4×4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矩形 66"/>
            <p:cNvSpPr/>
            <p:nvPr/>
          </p:nvSpPr>
          <p:spPr>
            <a:xfrm>
              <a:off x="2138400" y="3063600"/>
              <a:ext cx="785880" cy="571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0" name="Rectangle 51"/>
          <p:cNvSpPr/>
          <p:nvPr/>
        </p:nvSpPr>
        <p:spPr>
          <a:xfrm>
            <a:off x="2208240" y="244332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51"/>
          <p:cNvSpPr/>
          <p:nvPr/>
        </p:nvSpPr>
        <p:spPr>
          <a:xfrm>
            <a:off x="6638760" y="122868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ectangle 51"/>
          <p:cNvSpPr/>
          <p:nvPr/>
        </p:nvSpPr>
        <p:spPr>
          <a:xfrm>
            <a:off x="6638760" y="1873080"/>
            <a:ext cx="500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51"/>
          <p:cNvSpPr/>
          <p:nvPr/>
        </p:nvSpPr>
        <p:spPr>
          <a:xfrm>
            <a:off x="6567480" y="251460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51"/>
          <p:cNvSpPr/>
          <p:nvPr/>
        </p:nvSpPr>
        <p:spPr>
          <a:xfrm>
            <a:off x="2136600" y="177804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51"/>
          <p:cNvSpPr/>
          <p:nvPr/>
        </p:nvSpPr>
        <p:spPr>
          <a:xfrm>
            <a:off x="4352760" y="1871640"/>
            <a:ext cx="92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得八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51"/>
          <p:cNvSpPr/>
          <p:nvPr/>
        </p:nvSpPr>
        <p:spPr>
          <a:xfrm>
            <a:off x="4352760" y="2371680"/>
            <a:ext cx="92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十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51"/>
          <p:cNvSpPr/>
          <p:nvPr/>
        </p:nvSpPr>
        <p:spPr>
          <a:xfrm>
            <a:off x="4352760" y="3016080"/>
            <a:ext cx="92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十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8" name="组合 82"/>
          <p:cNvGrpSpPr/>
          <p:nvPr/>
        </p:nvGrpSpPr>
        <p:grpSpPr>
          <a:xfrm>
            <a:off x="1329840" y="4219560"/>
            <a:ext cx="5736240" cy="642960"/>
            <a:chOff x="1329840" y="4219560"/>
            <a:chExt cx="5736240" cy="642960"/>
          </a:xfrm>
        </p:grpSpPr>
        <p:grpSp>
          <p:nvGrpSpPr>
            <p:cNvPr id="1089" name="组合 81"/>
            <p:cNvGrpSpPr/>
            <p:nvPr/>
          </p:nvGrpSpPr>
          <p:grpSpPr>
            <a:xfrm>
              <a:off x="1329840" y="4290480"/>
              <a:ext cx="2494080" cy="571680"/>
              <a:chOff x="1329840" y="4290480"/>
              <a:chExt cx="2494080" cy="571680"/>
            </a:xfrm>
          </p:grpSpPr>
          <p:sp>
            <p:nvSpPr>
              <p:cNvPr id="1090" name="矩形 15"/>
              <p:cNvSpPr/>
              <p:nvPr/>
            </p:nvSpPr>
            <p:spPr>
              <a:xfrm>
                <a:off x="1329840" y="4337280"/>
                <a:ext cx="12992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想一想：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1×1=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矩形 77"/>
              <p:cNvSpPr/>
              <p:nvPr/>
            </p:nvSpPr>
            <p:spPr>
              <a:xfrm>
                <a:off x="3038400" y="4290480"/>
                <a:ext cx="785520" cy="571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2" name="圆角矩形 78"/>
            <p:cNvSpPr/>
            <p:nvPr/>
          </p:nvSpPr>
          <p:spPr>
            <a:xfrm>
              <a:off x="4851720" y="4219560"/>
              <a:ext cx="2214360" cy="642960"/>
            </a:xfrm>
            <a:prstGeom prst="roundRect">
              <a:avLst>
                <a:gd name="adj" fmla="val 16667"/>
              </a:avLst>
            </a:prstGeom>
            <a:solidFill>
              <a:srgbClr val="999999"/>
            </a:solidFill>
            <a:ln w="126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一一（       ）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3" name="Rectangle 51"/>
          <p:cNvSpPr/>
          <p:nvPr/>
        </p:nvSpPr>
        <p:spPr>
          <a:xfrm>
            <a:off x="5931000" y="4338720"/>
            <a:ext cx="9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得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Rectangle 51"/>
          <p:cNvSpPr/>
          <p:nvPr/>
        </p:nvSpPr>
        <p:spPr>
          <a:xfrm>
            <a:off x="3110040" y="438480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5" name="组合 2"/>
          <p:cNvGrpSpPr/>
          <p:nvPr/>
        </p:nvGrpSpPr>
        <p:grpSpPr>
          <a:xfrm>
            <a:off x="-50760" y="87480"/>
            <a:ext cx="2981160" cy="527040"/>
            <a:chOff x="-50760" y="87480"/>
            <a:chExt cx="2981160" cy="527040"/>
          </a:xfrm>
        </p:grpSpPr>
        <p:pic>
          <p:nvPicPr>
            <p:cNvPr id="1096" name="圆角矩形 13" descr=""/>
            <p:cNvPicPr/>
            <p:nvPr/>
          </p:nvPicPr>
          <p:blipFill>
            <a:blip r:embed="rId1"/>
            <a:stretch/>
          </p:blipFill>
          <p:spPr>
            <a:xfrm>
              <a:off x="85320" y="87480"/>
              <a:ext cx="284508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7" name="组合 4"/>
            <p:cNvGrpSpPr/>
            <p:nvPr/>
          </p:nvGrpSpPr>
          <p:grpSpPr>
            <a:xfrm>
              <a:off x="-50760" y="182520"/>
              <a:ext cx="394200" cy="274680"/>
              <a:chOff x="-50760" y="182520"/>
              <a:chExt cx="394200" cy="274680"/>
            </a:xfrm>
          </p:grpSpPr>
          <p:sp>
            <p:nvSpPr>
              <p:cNvPr id="1098" name="椭圆 17"/>
              <p:cNvSpPr/>
              <p:nvPr/>
            </p:nvSpPr>
            <p:spPr>
              <a:xfrm rot="16200000">
                <a:off x="184680" y="349560"/>
                <a:ext cx="97920" cy="11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9" name="椭圆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137520" y="319680"/>
                <a:ext cx="205920" cy="12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0" name="椭圆 19"/>
              <p:cNvSpPr/>
              <p:nvPr/>
            </p:nvSpPr>
            <p:spPr>
              <a:xfrm rot="16200000">
                <a:off x="184680" y="224280"/>
                <a:ext cx="97920" cy="11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1" name="椭圆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137520" y="198000"/>
                <a:ext cx="205920" cy="12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2" name="圆角矩形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37320"/>
                <a:ext cx="32220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3" name="圆角矩形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306720"/>
                <a:ext cx="32220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4" name="圆角矩形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12760"/>
                <a:ext cx="32220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5" name="圆角矩形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22200" cy="107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06" name="Rectangle 64"/>
          <p:cNvSpPr/>
          <p:nvPr/>
        </p:nvSpPr>
        <p:spPr>
          <a:xfrm>
            <a:off x="109440" y="69840"/>
            <a:ext cx="30416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二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矩形 3"/>
          <p:cNvSpPr/>
          <p:nvPr/>
        </p:nvSpPr>
        <p:spPr>
          <a:xfrm>
            <a:off x="214200" y="876240"/>
            <a:ext cx="1785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对口诀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4"/>
          <p:cNvSpPr/>
          <p:nvPr/>
        </p:nvSpPr>
        <p:spPr>
          <a:xfrm>
            <a:off x="3143160" y="1376280"/>
            <a:ext cx="1000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  <a:ea typeface="宋体"/>
              </a:rPr>
              <a:t>二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右箭头 5"/>
          <p:cNvSpPr/>
          <p:nvPr/>
        </p:nvSpPr>
        <p:spPr>
          <a:xfrm>
            <a:off x="4071960" y="1447920"/>
            <a:ext cx="785880" cy="285480"/>
          </a:xfrm>
          <a:prstGeom prst="rightArrow">
            <a:avLst>
              <a:gd name="adj1" fmla="val 50000"/>
              <a:gd name="adj2" fmla="val 50048"/>
            </a:avLst>
          </a:prstGeom>
          <a:solidFill>
            <a:srgbClr val="cccccc"/>
          </a:solidFill>
          <a:ln w="12600">
            <a:solidFill>
              <a:srgbClr val="eb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矩形 6"/>
          <p:cNvSpPr/>
          <p:nvPr/>
        </p:nvSpPr>
        <p:spPr>
          <a:xfrm>
            <a:off x="4929120" y="1376280"/>
            <a:ext cx="1000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Calibri"/>
                <a:ea typeface="宋体"/>
              </a:rPr>
              <a:t>得八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矩形 7"/>
          <p:cNvSpPr/>
          <p:nvPr/>
        </p:nvSpPr>
        <p:spPr>
          <a:xfrm>
            <a:off x="3143160" y="1996920"/>
            <a:ext cx="1000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  <a:ea typeface="宋体"/>
              </a:rPr>
              <a:t>三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右箭头 8"/>
          <p:cNvSpPr/>
          <p:nvPr/>
        </p:nvSpPr>
        <p:spPr>
          <a:xfrm>
            <a:off x="4071960" y="2068560"/>
            <a:ext cx="785880" cy="28584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cccccc"/>
          </a:solidFill>
          <a:ln w="12600">
            <a:solidFill>
              <a:srgbClr val="eb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矩形 9"/>
          <p:cNvSpPr/>
          <p:nvPr/>
        </p:nvSpPr>
        <p:spPr>
          <a:xfrm>
            <a:off x="4929120" y="1996920"/>
            <a:ext cx="1000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Calibri"/>
                <a:ea typeface="宋体"/>
              </a:rPr>
              <a:t>十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矩形 10"/>
          <p:cNvSpPr/>
          <p:nvPr/>
        </p:nvSpPr>
        <p:spPr>
          <a:xfrm>
            <a:off x="3143160" y="2689200"/>
            <a:ext cx="1000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  <a:ea typeface="宋体"/>
              </a:rPr>
              <a:t>四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右箭头 11"/>
          <p:cNvSpPr/>
          <p:nvPr/>
        </p:nvSpPr>
        <p:spPr>
          <a:xfrm>
            <a:off x="4071960" y="2760840"/>
            <a:ext cx="785880" cy="285480"/>
          </a:xfrm>
          <a:prstGeom prst="rightArrow">
            <a:avLst>
              <a:gd name="adj1" fmla="val 50000"/>
              <a:gd name="adj2" fmla="val 50048"/>
            </a:avLst>
          </a:prstGeom>
          <a:solidFill>
            <a:srgbClr val="cccccc"/>
          </a:solidFill>
          <a:ln w="12600">
            <a:solidFill>
              <a:srgbClr val="eb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矩形 12"/>
          <p:cNvSpPr/>
          <p:nvPr/>
        </p:nvSpPr>
        <p:spPr>
          <a:xfrm>
            <a:off x="4929120" y="2689200"/>
            <a:ext cx="1000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Calibri"/>
                <a:ea typeface="宋体"/>
              </a:rPr>
              <a:t>十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7" name="组合 16"/>
          <p:cNvGrpSpPr/>
          <p:nvPr/>
        </p:nvGrpSpPr>
        <p:grpSpPr>
          <a:xfrm>
            <a:off x="214200" y="3497400"/>
            <a:ext cx="8572680" cy="2500200"/>
            <a:chOff x="214200" y="3497400"/>
            <a:chExt cx="8572680" cy="2500200"/>
          </a:xfrm>
        </p:grpSpPr>
        <p:sp>
          <p:nvSpPr>
            <p:cNvPr id="1118" name="矩形 13"/>
            <p:cNvSpPr/>
            <p:nvPr/>
          </p:nvSpPr>
          <p:spPr>
            <a:xfrm>
              <a:off x="214200" y="3497400"/>
              <a:ext cx="857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2.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吃饭时每人需要一双筷子，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人需要（      ）根筷子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9" name="Picture 2" descr="D:\我的文档-桌面-收藏夹\桌面\27d58PICFIt.jpg"/>
            <p:cNvPicPr/>
            <p:nvPr/>
          </p:nvPicPr>
          <p:blipFill>
            <a:blip r:embed="rId8"/>
            <a:stretch/>
          </p:blipFill>
          <p:spPr>
            <a:xfrm>
              <a:off x="2857320" y="3997440"/>
              <a:ext cx="3430440" cy="200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0" name="矩形 15"/>
          <p:cNvSpPr/>
          <p:nvPr/>
        </p:nvSpPr>
        <p:spPr>
          <a:xfrm>
            <a:off x="6429240" y="349740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1" name="组合 2"/>
          <p:cNvGrpSpPr/>
          <p:nvPr/>
        </p:nvGrpSpPr>
        <p:grpSpPr>
          <a:xfrm>
            <a:off x="-50760" y="87480"/>
            <a:ext cx="2981160" cy="527040"/>
            <a:chOff x="-50760" y="87480"/>
            <a:chExt cx="2981160" cy="527040"/>
          </a:xfrm>
        </p:grpSpPr>
        <p:pic>
          <p:nvPicPr>
            <p:cNvPr id="1122" name="圆角矩形 13" descr=""/>
            <p:cNvPicPr/>
            <p:nvPr/>
          </p:nvPicPr>
          <p:blipFill>
            <a:blip r:embed="rId1"/>
            <a:stretch/>
          </p:blipFill>
          <p:spPr>
            <a:xfrm>
              <a:off x="85320" y="87480"/>
              <a:ext cx="284508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3" name="组合 4"/>
            <p:cNvGrpSpPr/>
            <p:nvPr/>
          </p:nvGrpSpPr>
          <p:grpSpPr>
            <a:xfrm>
              <a:off x="-50760" y="182520"/>
              <a:ext cx="394200" cy="274680"/>
              <a:chOff x="-50760" y="182520"/>
              <a:chExt cx="394200" cy="274680"/>
            </a:xfrm>
          </p:grpSpPr>
          <p:sp>
            <p:nvSpPr>
              <p:cNvPr id="1124" name="椭圆 17"/>
              <p:cNvSpPr/>
              <p:nvPr/>
            </p:nvSpPr>
            <p:spPr>
              <a:xfrm rot="16200000">
                <a:off x="184680" y="349560"/>
                <a:ext cx="97920" cy="11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5" name="椭圆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137520" y="319680"/>
                <a:ext cx="205920" cy="12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6" name="椭圆 19"/>
              <p:cNvSpPr/>
              <p:nvPr/>
            </p:nvSpPr>
            <p:spPr>
              <a:xfrm rot="16200000">
                <a:off x="184680" y="224280"/>
                <a:ext cx="97920" cy="11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7" name="椭圆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137520" y="198000"/>
                <a:ext cx="205920" cy="12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8" name="圆角矩形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37320"/>
                <a:ext cx="32220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9" name="圆角矩形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306720"/>
                <a:ext cx="32220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0" name="圆角矩形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12760"/>
                <a:ext cx="32220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1" name="圆角矩形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22200" cy="107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32" name="文本框 1"/>
          <p:cNvSpPr/>
          <p:nvPr/>
        </p:nvSpPr>
        <p:spPr>
          <a:xfrm>
            <a:off x="581040" y="758880"/>
            <a:ext cx="813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算一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=            4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=             2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=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=            1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=             4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文本框 3"/>
          <p:cNvSpPr/>
          <p:nvPr/>
        </p:nvSpPr>
        <p:spPr>
          <a:xfrm>
            <a:off x="2192400" y="16318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文本框 4"/>
          <p:cNvSpPr/>
          <p:nvPr/>
        </p:nvSpPr>
        <p:spPr>
          <a:xfrm>
            <a:off x="4057560" y="16318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文本框 5"/>
          <p:cNvSpPr/>
          <p:nvPr/>
        </p:nvSpPr>
        <p:spPr>
          <a:xfrm>
            <a:off x="5978520" y="16318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文本框 6"/>
          <p:cNvSpPr/>
          <p:nvPr/>
        </p:nvSpPr>
        <p:spPr>
          <a:xfrm>
            <a:off x="2197080" y="2484360"/>
            <a:ext cx="5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文本框 7"/>
          <p:cNvSpPr/>
          <p:nvPr/>
        </p:nvSpPr>
        <p:spPr>
          <a:xfrm>
            <a:off x="4041720" y="2484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文本框 8"/>
          <p:cNvSpPr/>
          <p:nvPr/>
        </p:nvSpPr>
        <p:spPr>
          <a:xfrm>
            <a:off x="5986440" y="24764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9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40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1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42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3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4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5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6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7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8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9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50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三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Box 32"/>
          <p:cNvSpPr/>
          <p:nvPr/>
        </p:nvSpPr>
        <p:spPr>
          <a:xfrm>
            <a:off x="190440" y="1436760"/>
            <a:ext cx="882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的乘法口诀：一四得四  二四得八  三四十二  四四十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的乘法口诀：一一得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4T08:54:00Z</dcterms:created>
  <dc:creator/>
  <dc:description/>
  <dc:language>en-US</dc:language>
  <cp:lastModifiedBy>万润仪器贸易公司</cp:lastModifiedBy>
  <dcterms:modified xsi:type="dcterms:W3CDTF">2020-08-21T00:36:21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